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59C-E93C-4F88-A867-88986D65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26C-5837-4377-B2E0-BDD37D9C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0D3-42B0-4A67-A678-A8E5D0D6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A0F-6434-416E-B621-76B0CEE4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B09-C165-4785-8138-24D45626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FFC-FB49-451C-8B70-A4F95370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CFF-2D39-4279-ABAA-77F60277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F28-445E-4F11-966A-FC34F377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9E3-4C12-4E15-A396-8E4F2172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FE6-0DCC-4648-8619-B44C685C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E97-C6C3-4CAF-83AB-90D75069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69D-1FB0-44BB-9FD9-7F29D706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5973-18B9-4B4E-8647-426825C98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170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2490840"/>
            <a:ext cx="57150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233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7:33:01Z</dcterms:created>
  <dc:creator>High School</dc:creator>
  <dc:description/>
  <dc:language>en-US</dc:language>
  <cp:lastModifiedBy>High School</cp:lastModifiedBy>
  <dcterms:modified xsi:type="dcterms:W3CDTF">2004-09-08T20:02:45Z</dcterms:modified>
  <cp:revision>4</cp:revision>
  <dc:subject/>
  <dc:title>Slide 1</dc:title>
</cp:coreProperties>
</file>